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6F44-89EF-461F-B78B-FE7CE6807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of Business and IT SME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lo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Na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2B8-0A30-4FFD-87AC-D8C988C8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F7F-206E-4649-899F-46C12059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B94-6499-4B1A-A35B-8AED9ABE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2E3-26A9-4160-857E-844B8A3D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FDA1-0C9B-4225-AEB9-691DFCB7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C610-DDA5-43C0-80E3-84D3CA5B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76B5-38AB-4F4F-BE27-8551EE21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3746-1ECD-4BE4-A39D-77BED427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12D4-2BC1-4BA5-BA30-C36D8984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40CA-05BE-4EC3-94D9-C602AB79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B30C-8CD9-4779-B468-EB4128A9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AA9-983C-482D-9A1B-3D66BA01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6369-F8AD-4FAE-8B85-DB2EF637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2C93-6668-4D8A-AD1B-BDD9E94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5C7F-60D7-4A0D-9B54-A3A75A03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CABD-E109-4728-8A0B-FE3E9E74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9A69-191B-457E-89E8-55E23093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282-D49D-4ED8-97C6-DC4EDDD6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85C-5A25-40D1-95E7-1E65CAFB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07D-35BB-40A0-BF5F-52EB7E46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E5E-7786-435A-9D46-83075C84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DD1-DF0D-4952-B2D3-7D6049FF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3E9-EA1C-46CE-B924-CD56594D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0EB-EB59-4AFE-8D33-DBAD4D0B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1C2A-27B7-4BC1-AA09-F8B7068C3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60199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490E-6992-42A8-8961-E21BFE7F4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COT Nodal Readiness Pla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 Dogg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 Special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7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Clar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es Touch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ure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 Cost Est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COT reviewing Nodal Protocols to identify any areas requiring clarification prior to requirements 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419720" y="22824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 Cla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76360" y="228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sses Touc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905120"/>
          <a:ext cx="8076960" cy="46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0769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ject Organiz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dicated Implementation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and IT co-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locate team wher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cipate clarification of Governance Model to define point of interaction with Market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curement Proces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vs. Extern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 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ure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MP Review and Comments in th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fine Timel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refining timeline to incorporate requirements from TNT Transi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adiness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months State Estimator load estim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months of posted L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8 Hou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refinement will occur after contracts are awar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fine Cost Estimat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refining cost estimate to incorporate requirements from TNT Transi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33920" y="2438280"/>
            <a:ext cx="12952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alisto MT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alisto MT"/>
              <a:ea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18:46:27Z</dcterms:created>
  <dc:creator>ercot/ds</dc:creator>
  <dc:description/>
  <dc:language>en-US</dc:language>
  <cp:lastModifiedBy>tnt</cp:lastModifiedBy>
  <dcterms:modified xsi:type="dcterms:W3CDTF">2005-09-07T14:02:46Z</dcterms:modified>
  <cp:revision>55</cp:revision>
  <dc:subject>Powerpoint Presentation</dc:subject>
  <dc:title>Network Model Management System (NMMS)</dc:title>
</cp:coreProperties>
</file>